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6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FFA2-65AB-4DA4-A7CC-567B71174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841392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3080" bIns="4500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2240" y="4741920"/>
            <a:ext cx="841392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3080" bIns="4500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F699-8C23-4A27-B524-706106F4E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58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3080" bIns="4500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3600" y="2138400"/>
            <a:ext cx="41058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3080" bIns="4500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2240" y="4741920"/>
            <a:ext cx="41058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3080" bIns="4500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3600" y="4741920"/>
            <a:ext cx="41058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3080" bIns="4500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9E87-A145-45C8-AE6A-DB8C89702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27090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3080" bIns="4500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66960" y="2138400"/>
            <a:ext cx="27090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3080" bIns="4500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12040" y="2138400"/>
            <a:ext cx="27090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3080" bIns="4500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2240" y="4741920"/>
            <a:ext cx="27090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3080" bIns="4500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66960" y="4741920"/>
            <a:ext cx="27090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3080" bIns="4500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12040" y="4741920"/>
            <a:ext cx="27090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3080" bIns="4500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A0BD-905F-46ED-8E07-CE1A37B1B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22240" y="2138400"/>
            <a:ext cx="8413920" cy="49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8413920" cy="49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3080" bIns="4500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5800" cy="49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3080" bIns="4500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33600" y="2138400"/>
            <a:ext cx="4105800" cy="49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3080" bIns="4500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40880" y="700200"/>
            <a:ext cx="860292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58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3080" bIns="4500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33600" y="2138400"/>
            <a:ext cx="4105800" cy="49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3080" bIns="4500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22240" y="4741920"/>
            <a:ext cx="41058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3080" bIns="4500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2240" y="2138400"/>
            <a:ext cx="8413920" cy="49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7542-E5C3-4509-AA61-08EF8D8FD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5800" cy="49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3080" bIns="4500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33600" y="2138400"/>
            <a:ext cx="41058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3080" bIns="4500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33600" y="4741920"/>
            <a:ext cx="41058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3080" bIns="4500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58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3080" bIns="4500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33600" y="2138400"/>
            <a:ext cx="41058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3080" bIns="4500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2240" y="4741920"/>
            <a:ext cx="841392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3080" bIns="4500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841392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3080" bIns="4500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22240" y="4741920"/>
            <a:ext cx="841392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3080" bIns="4500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58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3080" bIns="4500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33600" y="2138400"/>
            <a:ext cx="41058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3080" bIns="4500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22240" y="4741920"/>
            <a:ext cx="41058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3080" bIns="4500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133600" y="4741920"/>
            <a:ext cx="41058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3080" bIns="4500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27090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3080" bIns="4500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66960" y="2138400"/>
            <a:ext cx="27090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3080" bIns="4500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512040" y="2138400"/>
            <a:ext cx="27090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3080" bIns="4500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822240" y="4741920"/>
            <a:ext cx="27090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3080" bIns="4500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66960" y="4741920"/>
            <a:ext cx="27090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3080" bIns="4500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512040" y="4741920"/>
            <a:ext cx="27090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3080" bIns="4500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8413920" cy="49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3080" bIns="4500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402D-3C31-4507-B4C8-772644F29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5800" cy="49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3080" bIns="4500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3600" y="2138400"/>
            <a:ext cx="4105800" cy="49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3080" bIns="4500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DD0B-DC83-4DC8-9534-E2ACC136B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D60D-A3F5-4C2A-B03D-B8184B1C3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700200"/>
            <a:ext cx="860292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80D1-3E88-409E-893F-94D31060C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58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3080" bIns="4500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3600" y="2138400"/>
            <a:ext cx="4105800" cy="49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3080" bIns="4500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2240" y="4741920"/>
            <a:ext cx="41058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3080" bIns="4500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6DAC-8B2E-4AFA-A7E3-CB13D1EE6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5800" cy="49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3080" bIns="4500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3600" y="2138400"/>
            <a:ext cx="41058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3080" bIns="4500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3600" y="4741920"/>
            <a:ext cx="41058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3080" bIns="4500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6DEB-089F-4C49-9B1F-03E78B800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58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3080" bIns="4500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3600" y="2138400"/>
            <a:ext cx="41058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3080" bIns="4500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2240" y="4741920"/>
            <a:ext cx="841392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3080" bIns="4500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5791-20D7-46F1-BE67-7AF0DC847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5FC8E5-F1AC-494B-AFE5-9C0861A553A8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22240" y="2138400"/>
            <a:ext cx="8413920" cy="49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3080" bIns="4500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1"/>
          <p:cNvSpPr/>
          <p:nvPr/>
        </p:nvSpPr>
        <p:spPr>
          <a:xfrm>
            <a:off x="741240" y="0"/>
            <a:ext cx="8607600" cy="71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99284c"/>
                </a:solidFill>
                <a:latin typeface="Arial"/>
              </a:rPr>
              <a:t>Escola Estadual Drº João Ponce de Arru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99284c"/>
                </a:solidFill>
                <a:latin typeface="Arial"/>
              </a:rPr>
              <a:t>Ribas do Rio Par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99284c"/>
                </a:solidFill>
                <a:latin typeface="Arial"/>
              </a:rPr>
              <a:t>Progetec: Rita Elaine de Pau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99284c"/>
                </a:solidFill>
                <a:latin typeface="Arial"/>
              </a:rPr>
              <a:t>Grupo de Estudo e Discussão do Núcleo de Tecnologias Educacionais Reg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99284c"/>
                </a:solidFill>
                <a:latin typeface="Arial"/>
              </a:rPr>
              <a:t>(GED – NTE Regiona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99284c"/>
                </a:solidFill>
                <a:latin typeface="Arial"/>
              </a:rPr>
              <a:t>Grupo 3- Desacert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DESACERTOS</a:t>
            </a:r>
            <a:br>
              <a:rPr sz="3200"/>
            </a:b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Pedro Demo</a:t>
            </a:r>
            <a:endParaRPr b="1" i="1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21880" y="1079640"/>
            <a:ext cx="8418600" cy="6060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99284c"/>
                </a:solidFill>
                <a:latin typeface="Arial"/>
              </a:rPr>
              <a:t>Nossas escolas e universidades praticam ainda o método instrucionista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99284c"/>
                </a:solidFill>
                <a:latin typeface="Arial"/>
              </a:rPr>
              <a:t>Não se pesquisa ou elabora, não se fazem textos próprios, não se motiva a autoria mantendo-se como paradigma de aprendizagens mera instrução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99284c"/>
                </a:solidFill>
                <a:latin typeface="Arial"/>
              </a:rPr>
              <a:t>O desacerto vem de Longe. Vem principalmente do ambiente instrucionista. O professor também é vítima desse sistema, pois não aprendeu a reconstruir o conhecimento, em geral não sabem elaborar  textos próprio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1"/>
          <p:cNvSpPr/>
          <p:nvPr/>
        </p:nvSpPr>
        <p:spPr>
          <a:xfrm>
            <a:off x="741240" y="360360"/>
            <a:ext cx="8607600" cy="67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99284c"/>
                </a:solidFill>
                <a:latin typeface="Arial"/>
              </a:rPr>
              <a:t>O professor se torna o professor papagaio em uma escola onde o currículo prevê apenas repasses de conteúd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99284c"/>
                </a:solidFill>
                <a:latin typeface="Arial"/>
              </a:rPr>
              <a:t>O professor precisa aprender elaborar, discutir o que produziu e apresentar o que reconstruiu, elaborando, assim, seu conhecimento, caso contrário não estuda de verda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99284c"/>
                </a:solidFill>
                <a:latin typeface="Arial"/>
              </a:rPr>
              <a:t>Grande parte dos professores nunca pesquisou e elaborou Piaget, embora se imaginem capazes até mesmo de dar aula sobre o construtivism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99284c"/>
                </a:solidFill>
                <a:latin typeface="Arial"/>
              </a:rPr>
              <a:t>O professor pode até dar  aulas de construtivismo mas para isso  precisa pesquisar e elabor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503280" y="720720"/>
            <a:ext cx="9070920" cy="62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99284c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99284c"/>
                </a:solidFill>
                <a:latin typeface="Arial"/>
              </a:rPr>
              <a:t>É raro o aluno que gosta de estudar, isto é decorrente de uma sociedade que não preza o conhecimento como referência fundamental das oportunidades da vid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99284c"/>
                </a:solidFill>
                <a:latin typeface="Arial"/>
              </a:rPr>
              <a:t>Estudar implica esforço sistemático e permanente de reconstrução do conhecimento na condição de sujeito que inova e se renov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99284c"/>
                </a:solidFill>
                <a:latin typeface="Arial"/>
              </a:rPr>
              <a:t>Banaliza-se a pesquisa, entretanto na esfera da educação a pesquisa é o principio pedagógico da aprendizagem adequada, expediente indispensável na formação do aluno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1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99284c"/>
                </a:solidFill>
                <a:latin typeface="Arial"/>
              </a:rPr>
              <a:t>Pesquisar não implica apenas domínio do método, e sim, oportunidades mais elevadas de formaçã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99284c"/>
                </a:solidFill>
                <a:latin typeface="Arial"/>
              </a:rPr>
              <a:t>O estudo noturno deve ser valorizado e preservado, o cansaço não é justificativa para encurtar o estu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99284c"/>
                </a:solidFill>
                <a:latin typeface="Arial"/>
              </a:rPr>
              <a:t>O que é necessário é mudar a forma de ensin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1"/>
          <p:cNvSpPr/>
          <p:nvPr/>
        </p:nvSpPr>
        <p:spPr>
          <a:xfrm>
            <a:off x="720720" y="720720"/>
            <a:ext cx="8607600" cy="64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99284c"/>
                </a:solidFill>
                <a:latin typeface="Arial"/>
              </a:rPr>
              <a:t>A escola deveria reservar maior parte  do tempo para pesquisa e elaboraçã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99284c"/>
                </a:solidFill>
                <a:latin typeface="Arial"/>
              </a:rPr>
              <a:t>Memorizando conteúdos sobre pressão não se aprende para a vida, mas para a prov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99284c"/>
                </a:solidFill>
                <a:latin typeface="Arial"/>
              </a:rPr>
              <a:t>A aprendizagem virtual esta chegando. Às vezes criticada, porque a internet induz a cópia e ao excesso de informaçã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99284c"/>
                </a:solidFill>
                <a:latin typeface="Arial"/>
              </a:rPr>
              <a:t>A nova mídia precisa comparecer como chance inovadora de aprendizagem tanto mais reconstrutivas, porque os ambiente oferecem condições mais aprimoradas de pesquisa e elaboraçã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6T16:19:55Z</dcterms:created>
  <dc:creator>C�tia Aparecida de Paula</dc:creator>
  <dc:description/>
  <dc:language>en-US</dc:language>
  <cp:lastModifiedBy>C�tia Aparecida de Paula</cp:lastModifiedBy>
  <dcterms:modified xsi:type="dcterms:W3CDTF">2015-03-27T03:47:47Z</dcterms:modified>
  <cp:revision>2</cp:revision>
  <dc:subject/>
  <dc:title>Apresentação do PowerPoint</dc:title>
</cp:coreProperties>
</file>